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FC36-6B34-4672-AC49-3D0EBF13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2C4A-6BF2-4A6B-9180-DDA736DC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04A-8003-4F28-96D4-CA1BB570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B2C9-1585-42A0-82E2-1BEF315E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26E1A-AA8E-4B49-88F1-1A3F40772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801B6-10ED-4C60-BADB-279F12956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A0315-AC2B-4BA1-B0CB-FB34CFF1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1D4CE-71F1-4AE9-B10A-F407C31C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A9D51-E107-425E-998C-7ECD13A9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5083C-E47C-4582-B0BB-97B33468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32D1-A64C-4BD4-89D0-485AFF3F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676-28AA-494D-BFF7-B18A1A9E5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E0BC7-7F50-4086-93E3-531602FB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458FC-BC9B-4EE1-8B4E-4AEC5A41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988B1-9196-43C7-9E81-970B51AF3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569A-5179-4A6C-801D-BD97B5B27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FDCC-1F30-4F6D-9F46-DB7FF4B4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DF524-AE42-4866-BFD5-94BBCE80A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051E-27D7-4E01-B8D3-9633244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A6E59-09E3-4C7E-8326-73942CA64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386736-1F89-4F31-B4E4-4CF3D103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4DF040-E15E-468D-8018-520A03872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0E6E-BE3F-4FFF-ABA8-71EB9F56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87727-DF5E-4618-9740-110478BC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C341-43CF-494E-BFE7-4DA7BF825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A04EC-EF19-48A3-8B3F-1A627187D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6C0A4-2C08-4EA9-B350-EEB304DC8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1CA305-158C-46AC-873B-FD236A24D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A796-A2D8-4A85-95A8-39A8EAA23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72A22-9D3C-4920-96FA-06F43234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2887-C03C-4044-BC09-36F1F5A3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20189-D4A3-4EAC-8C2C-BB06C9793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A61DB2-DE65-4557-B677-4A9A3E1D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6EC1-E728-4B3D-B24F-F223E852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ECF88-C3D3-44CF-8BA0-A2C9FA12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39C2B-E951-487B-905C-09C3AA67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3621C8-110B-4E40-8EB1-512D63C47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A8561-2A4C-4CB1-94FF-A73A11DA2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C1B33-1D0A-439A-8B9D-B8C1267B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768334-8D76-4A68-917E-4BACF3AE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6A98-AC20-442A-90B8-41ECDAC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9DB4F-5B29-4F62-8FA4-39741F70C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8380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490440" y="216036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752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8380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490440" y="4187880"/>
            <a:ext cx="27676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6918E2-7DEE-45C1-A6E0-1FAA55C22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FE3-600B-44C1-97CE-3C779CA7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77520" y="609120"/>
            <a:ext cx="859644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A2D7-2157-4980-B473-3C4108D91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B75E-84C0-4961-86B5-B516A6889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82480" y="418788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5A8-91A4-4E7D-AA72-3223CF8B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752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82480" y="2160360"/>
            <a:ext cx="41947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7520" y="4187880"/>
            <a:ext cx="85964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342-22D3-485C-9515-16A22A22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BA3D-3D52-4055-B8E5-75CAC3020D92}" type="slidenum">
              <a:rPr b="0" lang="ja-JP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53" name="Straight Connector 31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Isosceles Triangle 26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Isosceles Triangle 30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Isosceles Triangle 18"/>
            <p:cNvSpPr/>
            <p:nvPr/>
          </p:nvSpPr>
          <p:spPr>
            <a:xfrm rot="10800000">
              <a:off x="0" y="360"/>
              <a:ext cx="842400" cy="566568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BE290-7561-4445-908A-D91FEFE75DC1}" type="slidenum">
              <a:rPr b="0" lang="ja-JP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05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19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1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894C-EFDE-4DAE-BE4F-65621ED73E19}" type="slidenum">
              <a:rPr b="0" lang="ja-JP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6"/>
          <p:cNvGrpSpPr/>
          <p:nvPr/>
        </p:nvGrpSpPr>
        <p:grpSpPr>
          <a:xfrm>
            <a:off x="0" y="-7920"/>
            <a:ext cx="12192120" cy="6865920"/>
            <a:chOff x="0" y="-7920"/>
            <a:chExt cx="12192120" cy="6865920"/>
          </a:xfrm>
        </p:grpSpPr>
        <p:sp>
          <p:nvSpPr>
            <p:cNvPr id="159" name="Straight Connector 19"/>
            <p:cNvSpPr/>
            <p:nvPr/>
          </p:nvSpPr>
          <p:spPr>
            <a:xfrm>
              <a:off x="9371160" y="360"/>
              <a:ext cx="1218960" cy="685764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20"/>
            <p:cNvSpPr/>
            <p:nvPr/>
          </p:nvSpPr>
          <p:spPr>
            <a:xfrm flipH="1">
              <a:off x="7425360" y="3681720"/>
              <a:ext cx="4763520" cy="317628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Rectangle 23"/>
            <p:cNvSpPr/>
            <p:nvPr/>
          </p:nvSpPr>
          <p:spPr>
            <a:xfrm>
              <a:off x="9181800" y="-7920"/>
              <a:ext cx="3007440" cy="6865920"/>
            </a:xfrm>
            <a:custGeom>
              <a:avLst/>
              <a:gdLst/>
              <a:ahLst/>
              <a:rect l="l" t="t" r="r" b="b"/>
              <a:pathLst>
                <a:path w="3007349" h="6866467">
                  <a:moveTo>
                    <a:pt x="2045532" y="0"/>
                  </a:moveTo>
                  <a:lnTo>
                    <a:pt x="3007349" y="0"/>
                  </a:lnTo>
                  <a:lnTo>
                    <a:pt x="3007349" y="6866467"/>
                  </a:lnTo>
                  <a:lnTo>
                    <a:pt x="0" y="6866467"/>
                  </a:lnTo>
                  <a:lnTo>
                    <a:pt x="2045532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Rectangle 25"/>
            <p:cNvSpPr/>
            <p:nvPr/>
          </p:nvSpPr>
          <p:spPr>
            <a:xfrm>
              <a:off x="9603720" y="-7920"/>
              <a:ext cx="2588400" cy="6865920"/>
            </a:xfrm>
            <a:custGeom>
              <a:avLst/>
              <a:gdLst/>
              <a:ahLst/>
              <a:rect l="l" t="t" r="r" b="b"/>
              <a:pathLst>
                <a:path w="2573311" h="6866467">
                  <a:moveTo>
                    <a:pt x="0" y="0"/>
                  </a:moveTo>
                  <a:lnTo>
                    <a:pt x="2573311" y="0"/>
                  </a:lnTo>
                  <a:lnTo>
                    <a:pt x="2573311" y="6866467"/>
                  </a:lnTo>
                  <a:lnTo>
                    <a:pt x="1202336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Isosceles Triangle 23"/>
            <p:cNvSpPr/>
            <p:nvPr/>
          </p:nvSpPr>
          <p:spPr>
            <a:xfrm>
              <a:off x="8932680" y="3048120"/>
              <a:ext cx="3259440" cy="3809880"/>
            </a:xfrm>
            <a:prstGeom prst="triangle">
              <a:avLst>
                <a:gd name="adj" fmla="val 100000"/>
              </a:avLst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Rectangle 27"/>
            <p:cNvSpPr/>
            <p:nvPr/>
          </p:nvSpPr>
          <p:spPr>
            <a:xfrm>
              <a:off x="9334800" y="-7920"/>
              <a:ext cx="2854080" cy="6865920"/>
            </a:xfrm>
            <a:custGeom>
              <a:avLst/>
              <a:gdLst/>
              <a:ahLst/>
              <a:rect l="l" t="t" r="r" b="b"/>
              <a:pathLst>
                <a:path w="2858013" h="6866467">
                  <a:moveTo>
                    <a:pt x="0" y="0"/>
                  </a:moveTo>
                  <a:lnTo>
                    <a:pt x="2858013" y="0"/>
                  </a:lnTo>
                  <a:lnTo>
                    <a:pt x="2858013" y="6866467"/>
                  </a:lnTo>
                  <a:lnTo>
                    <a:pt x="2473942" y="68664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Rectangle 28"/>
            <p:cNvSpPr/>
            <p:nvPr/>
          </p:nvSpPr>
          <p:spPr>
            <a:xfrm>
              <a:off x="10899000" y="-7920"/>
              <a:ext cx="1289880" cy="6865920"/>
            </a:xfrm>
            <a:custGeom>
              <a:avLst/>
              <a:gdLst/>
              <a:ahLst/>
              <a:rect l="l" t="t" r="r" b="b"/>
              <a:pathLst>
                <a:path w="1290094" h="6858000">
                  <a:moveTo>
                    <a:pt x="1019735" y="0"/>
                  </a:moveTo>
                  <a:lnTo>
                    <a:pt x="1290094" y="0"/>
                  </a:lnTo>
                  <a:lnTo>
                    <a:pt x="1290094" y="6858000"/>
                  </a:lnTo>
                  <a:lnTo>
                    <a:pt x="0" y="6858000"/>
                  </a:lnTo>
                  <a:lnTo>
                    <a:pt x="1019735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Rectangle 29"/>
            <p:cNvSpPr/>
            <p:nvPr/>
          </p:nvSpPr>
          <p:spPr>
            <a:xfrm>
              <a:off x="10939320" y="-7920"/>
              <a:ext cx="1249560" cy="6865920"/>
            </a:xfrm>
            <a:custGeom>
              <a:avLst/>
              <a:gdLst/>
              <a:ahLst/>
              <a:rect l="l" t="t" r="r" b="b"/>
              <a:pathLst>
                <a:path w="1249825" h="6858000">
                  <a:moveTo>
                    <a:pt x="0" y="0"/>
                  </a:moveTo>
                  <a:lnTo>
                    <a:pt x="1249825" y="0"/>
                  </a:lnTo>
                  <a:lnTo>
                    <a:pt x="1249825" y="6858000"/>
                  </a:lnTo>
                  <a:lnTo>
                    <a:pt x="1109382" y="6858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Isosceles Triangle 27"/>
            <p:cNvSpPr/>
            <p:nvPr/>
          </p:nvSpPr>
          <p:spPr>
            <a:xfrm>
              <a:off x="10371960" y="3590280"/>
              <a:ext cx="1816920" cy="3267720"/>
            </a:xfrm>
            <a:prstGeom prst="triangle">
              <a:avLst>
                <a:gd name="adj" fmla="val 100000"/>
              </a:avLst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Isosceles Triangle 28"/>
            <p:cNvSpPr/>
            <p:nvPr/>
          </p:nvSpPr>
          <p:spPr>
            <a:xfrm>
              <a:off x="0" y="4013280"/>
              <a:ext cx="448560" cy="2844720"/>
            </a:xfrm>
            <a:prstGeom prst="triangle">
              <a:avLst>
                <a:gd name="adj" fmla="val 0"/>
              </a:avLst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541440" y="790560"/>
            <a:ext cx="6094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8893080" y="2886120"/>
            <a:ext cx="60984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7520" y="2160360"/>
            <a:ext cx="859644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7205400" y="6041520"/>
            <a:ext cx="911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898989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898989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77520" y="6041520"/>
            <a:ext cx="6297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58960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E234-7DE0-4171-90C6-5A1AE3B0743F}" type="slidenum">
              <a:rPr b="0" lang="ja-JP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77520" y="609120"/>
            <a:ext cx="859644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3600" spc="-1" strike="noStrike">
                <a:solidFill>
                  <a:srgbClr val="90c226"/>
                </a:solidFill>
                <a:latin typeface="Trebuchet MS"/>
              </a:rPr>
              <a:t>支店別実績：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5T11:17:05Z</dcterms:created>
  <dc:creator>立山秀利</dc:creator>
  <dc:description/>
  <dc:language>en-US</dc:language>
  <cp:lastModifiedBy>Windows ユーザー</cp:lastModifiedBy>
  <dcterms:modified xsi:type="dcterms:W3CDTF">2014-03-14T04:54:59Z</dcterms:modified>
  <cp:revision>3</cp:revision>
  <dc:subject/>
  <dc:title>支店別実績：</dc:title>
</cp:coreProperties>
</file>